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20A7-4BC2-4AC2-A571-0FAA5104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4FFA-0DC7-47B1-B45B-452A8916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AB02-B4A3-4B87-83EB-4FD01625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3AA4-8378-4938-B6F3-53DC6F32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D6FD-B4B7-42E1-8B69-B0FAF38B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AF73-35BB-435E-A730-C0B53350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A1DE-C79E-4566-BAF1-E7847833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5271-FDD4-4D1A-9683-A0A93A92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7120-C972-4F2A-AEC1-B1E9DA95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21CC-9597-4A71-AF26-9B25D08A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DA24-D204-4B21-862F-DD091215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95B1-A9DD-4634-AFC1-CD99C2C3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5DFC-49A9-432A-A91C-BAD764776FE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Why categorize cultu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13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cause it allows u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*Predict a culture`s behavi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*clarify why people did what they d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*avoid giving offen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*search for some kind of un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*standarize policie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*percieve neatness and </a:t>
            </a:r>
            <a:r>
              <a:rPr b="0" i="1" lang="de-DE" sz="3200" spc="-1" strike="noStrike">
                <a:solidFill>
                  <a:srgbClr val="cc3300"/>
                </a:solidFill>
                <a:latin typeface="Arial"/>
              </a:rPr>
              <a:t>Ordn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Bild 006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692360" y="0"/>
            <a:ext cx="575784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684360" y="225360"/>
            <a:ext cx="7559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7848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Bild 001"/>
          <p:cNvPicPr/>
          <p:nvPr/>
        </p:nvPicPr>
        <p:blipFill>
          <a:blip r:embed="rId1"/>
          <a:stretch/>
        </p:blipFill>
        <p:spPr>
          <a:xfrm>
            <a:off x="266760" y="282600"/>
            <a:ext cx="8893080" cy="62406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179280" y="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50920" y="1159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ichard Lew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Bild 013"/>
          <p:cNvPicPr/>
          <p:nvPr/>
        </p:nvPicPr>
        <p:blipFill>
          <a:blip r:embed="rId1"/>
          <a:stretch/>
        </p:blipFill>
        <p:spPr>
          <a:xfrm>
            <a:off x="0" y="260280"/>
            <a:ext cx="939636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Bild 014"/>
          <p:cNvPicPr/>
          <p:nvPr/>
        </p:nvPicPr>
        <p:blipFill>
          <a:blip r:embed="rId1"/>
          <a:stretch/>
        </p:blipFill>
        <p:spPr>
          <a:xfrm>
            <a:off x="179280" y="0"/>
            <a:ext cx="878544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Bild 017"/>
          <p:cNvPicPr/>
          <p:nvPr/>
        </p:nvPicPr>
        <p:blipFill>
          <a:blip r:embed="rId1"/>
          <a:stretch/>
        </p:blipFill>
        <p:spPr>
          <a:xfrm>
            <a:off x="1042920" y="357120"/>
            <a:ext cx="705816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218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ost misunderstandings arise because of category differences and not because of different nationalities.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rmany and The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apan and Ko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ain and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deally cross-cultural relationships should increase the insights in the partner`s culture and through adaptation fit in with the attitudes of the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Bild 018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264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395280" y="476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"/>
              </a:rPr>
              <a:t>Data Ori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Bild 020"/>
          <p:cNvPicPr/>
          <p:nvPr/>
        </p:nvPicPr>
        <p:blipFill>
          <a:blip r:embed="rId1"/>
          <a:stretch/>
        </p:blipFill>
        <p:spPr>
          <a:xfrm>
            <a:off x="250920" y="333360"/>
            <a:ext cx="8281800" cy="612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468360" y="1890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"/>
              </a:rPr>
              <a:t>Dialogue-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6407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0000"/>
                </a:solidFill>
                <a:latin typeface="Arial"/>
              </a:rPr>
              <a:t>Who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 categorizes cultures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for the </a:t>
            </a:r>
            <a:r>
              <a:rPr b="0" lang="de-DE" sz="3600" spc="-1" strike="noStrike">
                <a:solidFill>
                  <a:srgbClr val="ff0000"/>
                </a:solidFill>
                <a:latin typeface="Arial"/>
              </a:rPr>
              <a:t>business world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sultants for glob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uman resources specia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antrop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ey are basically practitioners and </a:t>
            </a: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social scientist with controled experiments and derived data but intelligent observers with a lot of experi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7168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ichard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hen Cultures Collide“   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ons Trompenaar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harles Hampden-Tu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iding the waves of culture“ 19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dward T.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   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yond Culture“                   19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Bild 001"/>
          <p:cNvPicPr/>
          <p:nvPr/>
        </p:nvPicPr>
        <p:blipFill>
          <a:blip r:embed="rId1"/>
          <a:stretch/>
        </p:blipFill>
        <p:spPr>
          <a:xfrm>
            <a:off x="250920" y="189000"/>
            <a:ext cx="8893080" cy="6334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79280" y="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50920" y="115920"/>
            <a:ext cx="2305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ichard Lew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Bild 002"/>
          <p:cNvPicPr/>
          <p:nvPr/>
        </p:nvPicPr>
        <p:blipFill>
          <a:blip r:embed="rId1"/>
          <a:stretch/>
        </p:blipFill>
        <p:spPr>
          <a:xfrm>
            <a:off x="611280" y="30240"/>
            <a:ext cx="853272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Bild 003"/>
          <p:cNvPicPr/>
          <p:nvPr/>
        </p:nvPicPr>
        <p:blipFill>
          <a:blip r:embed="rId1"/>
          <a:stretch/>
        </p:blipFill>
        <p:spPr>
          <a:xfrm>
            <a:off x="324000" y="189000"/>
            <a:ext cx="8137440" cy="6264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684360" y="566100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ild 004"/>
          <p:cNvPicPr/>
          <p:nvPr/>
        </p:nvPicPr>
        <p:blipFill>
          <a:blip r:embed="rId1"/>
          <a:stretch/>
        </p:blipFill>
        <p:spPr>
          <a:xfrm>
            <a:off x="250920" y="260280"/>
            <a:ext cx="80661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Bild 005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08:37:24Z</dcterms:created>
  <dc:creator>Japaninfo</dc:creator>
  <dc:description/>
  <dc:language>en-US</dc:language>
  <cp:lastModifiedBy>Ivan Botskor</cp:lastModifiedBy>
  <dcterms:modified xsi:type="dcterms:W3CDTF">2014-04-29T06:49:47Z</dcterms:modified>
  <cp:revision>35</cp:revision>
  <dc:subject/>
  <dc:title>Slide 1</dc:title>
</cp:coreProperties>
</file>